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3E0-1FC7-4DF1-B142-B2639A85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1D9-7077-47A0-9BCF-87041D9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794-285E-4AF8-A496-F410DADC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9CD-4A31-49E3-BF7C-A186F370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F420-B9EF-4868-9B3D-91CE0C2A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E2C22-E871-4DB8-A23A-B9371849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3982E-643B-47D8-8EFB-19F3EFC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9A3C-9A32-4C97-8F91-B40FF355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D31B-21A3-4D5C-9936-9E58EBBC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3FB7-F7F8-4444-BB85-C08EA5E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F65EC-1747-4A19-B82F-6EBEC65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21B-AB37-48B3-8526-91420E0C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D9ABF-163A-484D-80A2-F4CABD4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1417D-5FB2-48E4-8E5A-8768E38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D3DD-9697-43B7-AF70-9B42D6E1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402A9-E53D-4831-AC1A-967C48D1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CA1E7-78FD-455B-80C9-7A41C50E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D13F-D500-427D-8F7C-266BC11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E9B3-C110-4764-BD50-819A398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9D4D-BF6A-4770-AA9A-F3309D6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52DC-84A3-44EA-9B8C-B087FCB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2F2D-4EF7-4BD5-99A8-F9312EEC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7F6-40C9-4EEF-91FF-39D9B7F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A3D3-916D-4191-93C0-1ABD7A92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B6B2-63B6-479E-BF5D-0EC1DA8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76FF-4ADC-4349-8CA6-EE9814B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09F9-D485-49BD-BEBA-FC58289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DD2C-3837-4D13-A441-1661507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C982-08F4-4F48-B15A-CA0A8BB7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CB03-4840-4CB4-BF7B-79836E4A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A7FBD-1D71-4DDA-A67C-BC813C2D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45DB7-C3B4-4694-B9D0-22003EE2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B5316-E8D0-4FDF-A264-57EEE8F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141-EB26-49EF-827F-FB88453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2A733-3A69-4BE4-9C74-601B5E5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B4E15-F5C4-4604-B067-C2C8CB4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17383-5317-4199-971A-8FD216C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52F20-9133-4A93-B53F-9C5A2C7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67D03-6F64-4617-9CD3-5B94EED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EA0C7-2DA4-4485-93A6-BE6CC3F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E1C16-E8A7-48F5-94B0-76978C8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0F24E-724C-4BBB-83A5-1E2C0762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25045-98B9-4197-81E2-02A22353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8DB-3024-4243-9DEC-B0B824F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695-B634-4789-AA0C-01AB0A7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7CC-A926-41AD-B64E-7FD4121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2BA-66CF-4594-9EA3-6A072B6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1D5-8DEC-4750-A0C7-5ADCF72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A07-C2B0-4711-808C-B1FF1A2B174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ED8-63D4-4C69-918F-E0A995AC88E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89E-AADE-494E-ABB1-C760AC3A420C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4D1-BDEE-415B-BC2F-8EACB8C6EAD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3059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Maria Laura Valle       Adriana Egusquiz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efac9"/>
                </a:solidFill>
                <a:latin typeface="Constantia"/>
              </a:rPr>
              <a:t>Jimena Suarez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321760" cy="96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t3.gstatic.com/images?q=tbn:adRLIAy0_svRiM:http://bp3.blogger.com/_u9JLfSM5dUc/R9mrGYK7D1I/AAAAAAAACRM/MVMeOCv2ouo/s400/Sechin_huaraz_1.jpg"/>
          <p:cNvPicPr/>
          <p:nvPr/>
        </p:nvPicPr>
        <p:blipFill>
          <a:blip r:embed="rId2"/>
          <a:stretch/>
        </p:blipFill>
        <p:spPr>
          <a:xfrm>
            <a:off x="857160" y="2214720"/>
            <a:ext cx="6929640" cy="4286160"/>
          </a:xfrm>
          <a:prstGeom prst="rect">
            <a:avLst/>
          </a:prstGeom>
          <a:ln w="0">
            <a:noFill/>
          </a:ln>
        </p:spPr>
      </p:pic>
      <p:sp>
        <p:nvSpPr>
          <p:cNvPr id="173" name="6 Flecha a la derecha con muesca"/>
          <p:cNvSpPr/>
          <p:nvPr/>
        </p:nvSpPr>
        <p:spPr>
          <a:xfrm>
            <a:off x="1214280" y="3714840"/>
            <a:ext cx="3500640" cy="2500200"/>
          </a:xfrm>
          <a:custGeom>
            <a:avLst/>
            <a:gdLst>
              <a:gd name="textAreaLeft" fmla="*/ 624960 w 3500640"/>
              <a:gd name="textAreaRight" fmla="*/ 2875680 w 3500640"/>
              <a:gd name="textAreaTop" fmla="*/ 624960 h 2500200"/>
              <a:gd name="textAreaBottom" fmla="*/ 1875240 h 250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6" y="5400"/>
                </a:ln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13886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ntrando a sechin…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pásenla bien con sus guías que les explicaran cualquier du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1 CuadroTexto"/>
          <p:cNvSpPr/>
          <p:nvPr/>
        </p:nvSpPr>
        <p:spPr>
          <a:xfrm>
            <a:off x="1428840" y="428760"/>
            <a:ext cx="59292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Muchas gracias por su aten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nstantia"/>
              </a:rPr>
              <a:t>Esperamos que le s halla sido de su agrado y también que hallan podido rescatar algunas pautas de esta preciosa cultur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Sechin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717600">
            <a:off x="5294160" y="2469960"/>
            <a:ext cx="2873520" cy="3825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 rot="20833800">
            <a:off x="960480" y="3666600"/>
            <a:ext cx="3009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UBICACIÓN GEOGRAFICA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Sechin esta ubicado en el departamento de Ancash,  provincia de Casma  en la   COSTA NORTE.  A cinco kilómetros  del mismo ,sobre la falda del cerro laguna a 90 metros sobre  el nivel del mar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http://farm4.static.flickr.com/3068/2288789316_282b92331d_o.jpg"/>
          <p:cNvPicPr/>
          <p:nvPr/>
        </p:nvPicPr>
        <p:blipFill>
          <a:blip r:embed="rId1"/>
          <a:stretch/>
        </p:blipFill>
        <p:spPr>
          <a:xfrm>
            <a:off x="268200" y="274680"/>
            <a:ext cx="64008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a cultura Sechin se encuentra en el formativo inicial o tempran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Los antiguos constructores eligieron el lado Norte ,antes de que llegaran los de la cultura Chavín ,la pecularidad del lugar es que present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Constantia"/>
              </a:rPr>
              <a:t>Revetimiento Líticos Grabados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(escenas de guerreros sangrientos y sacrificios humanos),los cuales decoran el contorno del edific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1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928960" y="442908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5572080" y="285840"/>
            <a:ext cx="213696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3 Título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212320" cy="963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2500200"/>
            <a:ext cx="79246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efac9"/>
                </a:solidFill>
                <a:latin typeface="Constantia"/>
              </a:rPr>
              <a:t>Sus edificios de piedra tenían caras planas y  talladas .los sacerdotes eran dibujados con todo el cuerpo de perfil y unas partes al frente .llevaban como ropa una especie de tapa rabo de perfil y usaban  unos gorros .También pintaron cabezas de guerreros .este es uno de los vestigios mas antiguos del Perú construido aproximadamente 1500 AC y también es una delas ruinas  costeras mas importantes y conservadas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 rot="575400">
            <a:off x="5932080" y="528480"/>
            <a:ext cx="3071880" cy="193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29224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1 Marcador de texto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onsiste en que tenia plazas circulares hundidas que actualmente se llama la atención de Sechin bajo. Comenzaron con edificaciones mas grandes debido al crecimiento de la población. Esta tiene 2 patios y se dividen en 4 seguidas con esquinas curvadas y muro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Gran parte de la arquitectura de sechin es de piedra canteada traída desde los cerros ,lo cual evidencia una fuerza de trabajo ,esa labor se debió contar con diversos implementos y herramienta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El descubrimiento de arquitectura de sechin demostraría que el Perú fue uno de los  centros de alta civilización en el mundo antiguo, los orígenes de un pasado libre de influencias externas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4 Título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5286240" y="428760"/>
            <a:ext cx="31435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428480"/>
            <a:ext cx="40384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l modelo arquitectónico de las plazas hundidas marca los orígenes del antiguo Perú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odo lo elaboro el antiguo peruano de acuerdo a sus creenci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al vez en el futuro se puedan hallar templos mas antiguos en algún lugar del país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9760" y="1428480"/>
            <a:ext cx="40384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Como todos saben para construir ,hay que tener un grupo de gente que obedezca a un liderazgo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Toda arquitectura es una obra comun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4 Título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214880" y="4000680"/>
            <a:ext cx="4064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5000760" cy="5786280"/>
          </a:xfrm>
          <a:prstGeom prst="rect">
            <a:avLst/>
          </a:prstGeom>
          <a:ln w="0">
            <a:noFill/>
          </a:ln>
        </p:spPr>
      </p:pic>
      <p:sp>
        <p:nvSpPr>
          <p:cNvPr id="195" name="3 Pergamino vertical"/>
          <p:cNvSpPr/>
          <p:nvPr/>
        </p:nvSpPr>
        <p:spPr>
          <a:xfrm>
            <a:off x="6286680" y="428760"/>
            <a:ext cx="2428560" cy="3071520"/>
          </a:xfrm>
          <a:prstGeom prst="verticalScrol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Esta es una imagen  de cómo era la arquitectura en sech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http://es.wikipedia.org/skins-1.5/common/images/magnify-clip.png"/>
          <p:cNvPicPr/>
          <p:nvPr/>
        </p:nvPicPr>
        <p:blipFill>
          <a:blip r:embed="rId1"/>
          <a:stretch/>
        </p:blipFill>
        <p:spPr>
          <a:xfrm>
            <a:off x="155520" y="7542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5370480" cy="4500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fac9"/>
                </a:solidFill>
                <a:latin typeface="Constantia"/>
              </a:rPr>
              <a:t>RELIGION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Momia, sacrificio humano 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efac9"/>
                </a:solidFill>
                <a:latin typeface="Constantia"/>
              </a:rPr>
              <a:t>Fue encontrado en el MUSEO REGIONAL DE CASMA ¨MAX UHULE¨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C:\Documents and Settings\Administrador\Mis documentos\Mis imágenes\malala y adri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44:29Z</dcterms:created>
  <dc:creator>Juan</dc:creator>
  <dc:description/>
  <dc:language>en-US</dc:language>
  <cp:lastModifiedBy>Juan</cp:lastModifiedBy>
  <dcterms:modified xsi:type="dcterms:W3CDTF">2009-11-09T00:40:23Z</dcterms:modified>
  <cp:revision>31</cp:revision>
  <dc:subject/>
  <dc:title>Sechín</dc:title>
</cp:coreProperties>
</file>